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27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6EAF-CE4E-495A-A5D4-04FB6AF4DE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it and where does it come from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it and where does it come from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activ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out and sort the pictures under the correct columns.   Label the effects of the electric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 and green tables write a sentence describing the effect. E.g. The mains electricity causes the iron to heat up so it can iron the wrinkles out of cloth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out and sort the pictures under the correct columns.   Label the effects of the electric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and green tables write a sentence describing the effect. E.g. The mains electricity causes the iron to heat up so it can iron the wrinkles out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afe around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very dangerous. You should never put anything into electric sockets, except plu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touch appliances, wires or electrical switches with wet hands or fe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afe around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can be very dangerous. You should never put anything into electric sockets, except plu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touch appliances, wires or electrical switches with wet hands or fe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sources of electricity such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: coal, oil and w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of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sources of electricity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fuels: coal, oil and w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 kind of energy. It is made in power stat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electricity and how is it ma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you think electricity is connected to our hom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lso made in batter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a kind of energy. It is made in power st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lectricity and how is it ma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electricity is connected to our hom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also made in batte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ins electricity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icity produced in power stations is carried through wires into buildi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e can connect to it by using a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mains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ins electricit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ity produced in power stations is carried through wires into buil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can connect to it by using a pl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batterie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a battery are two different chemicals. When you put a battery into an appliance a circuit is m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chemicals begin to change into new chemicals. As they change an electrical current flows along the circuit making the appliance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batterie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a battery are two different chemicals. When you put a battery into an appliance a circuit is ma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hemicals begin to change into new chemicals. As they change an electrical current flows along the circuit making the appliance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we need electri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modern world we rely on electricity for nearly everyth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 of electricity do these appliances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it for important things lik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igera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electri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dern world we rely on electricity for nearly every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electricity do these appliances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it for important things li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igera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use battery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ppliances that use batter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use battery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think of appliances that use batter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use mains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ee in this classroom that uses mains electricit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ings do you have at home that use mains electricit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use mains 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see in this classroom that uses mains electricit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ngs do you have at home that use mains electricit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48C-4214-40C7-8C82-A07D24DB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8FEE-2ABC-4056-A5AD-5E318ADB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41E6-7438-4C29-AF72-D58407B8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A82B-E65D-4445-A3AF-7702E7F69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8151-23FA-4AEA-8BCE-B68BF3F4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713F-55C5-438B-8753-CF6C3DBB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1B90-30A1-4205-887B-468CC103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A86D-2F5C-4F86-956B-FD2BB1D3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F09D-1EB1-4F98-B603-6181C78B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2A7B-77E4-4D82-BA84-ED81EFCB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EF7-AFD7-42C5-BAFC-6AF11280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2A94-2D59-4014-A141-CB4450DC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A195-C805-4E52-BA67-8F4490A81A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free-pictures-photos.com/water/water-08.jpg&amp;imgrefurl=http://www.free-pictures-photos.com/water/index.htm&amp;h=930&amp;w=1420&amp;sz=1763&amp;hl=en&amp;start=1&amp;tbnid=jYxoAI8Ylir_vM:&amp;tbnh=98&amp;tbnw=150&amp;prev=/images%3Fq%3Dwater%26svnum%3D10%26hl%3De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uk/imgres?imgurl=http://www.noaanews.noaa.gov/stories2005/images/sun-soho011905-1919z.jpg&amp;imgrefurl=http://www.noaanews.noaa.gov/stories2005/s2372.htm&amp;h=1024&amp;w=1024&amp;sz=118&amp;hl=en&amp;start=1&amp;tbnid=kqJKIgDY4i45dM:&amp;tbnh=150&amp;tbnw=150&amp;prev=/images%3Fq%3DSun%26svnum%3D10%26hl%3Den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it and where does it come fr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403280" y="765000"/>
            <a:ext cx="6438960" cy="168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Electricity </a:t>
            </a:r>
            <a:endParaRPr b="0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2195640" y="333360"/>
            <a:ext cx="4591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Independent activity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42920" y="3645000"/>
            <a:ext cx="7416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ut out and sort the pictures under the correct columns.   Label the effects of the electric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Blu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gree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bles write a sentence describing the effect. E.g. </a:t>
            </a:r>
            <a:r>
              <a:rPr b="0" lang="en-GB" sz="2400" spc="-1" strike="noStrike">
                <a:solidFill>
                  <a:srgbClr val="800080"/>
                </a:solidFill>
                <a:latin typeface="Comic Sans MS"/>
              </a:rPr>
              <a:t>The mains electricity causes the iron to heat up so it can iron the wrinkles out of clot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050920" y="1125360"/>
          <a:ext cx="4392720" cy="235296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tte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und, mov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24" descr="3010"/>
          <p:cNvPicPr/>
          <p:nvPr/>
        </p:nvPicPr>
        <p:blipFill>
          <a:blip r:embed="rId3"/>
          <a:stretch/>
        </p:blipFill>
        <p:spPr>
          <a:xfrm>
            <a:off x="2484360" y="19162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silvergaucho"/>
          <p:cNvPicPr/>
          <p:nvPr/>
        </p:nvPicPr>
        <p:blipFill>
          <a:blip r:embed="rId4"/>
          <a:stretch/>
        </p:blipFill>
        <p:spPr>
          <a:xfrm>
            <a:off x="4500720" y="1916280"/>
            <a:ext cx="126504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Zapped"/>
          <p:cNvPicPr/>
          <p:nvPr/>
        </p:nvPicPr>
        <p:blipFill>
          <a:blip r:embed="rId1"/>
          <a:stretch/>
        </p:blipFill>
        <p:spPr>
          <a:xfrm>
            <a:off x="684360" y="549360"/>
            <a:ext cx="1847880" cy="1762200"/>
          </a:xfrm>
          <a:prstGeom prst="rect">
            <a:avLst/>
          </a:prstGeom>
          <a:ln w="0">
            <a:noFill/>
          </a:ln>
        </p:spPr>
      </p:pic>
      <p:sp>
        <p:nvSpPr>
          <p:cNvPr id="52" name="WordArt 8"/>
          <p:cNvSpPr txBox="1"/>
          <p:nvPr/>
        </p:nvSpPr>
        <p:spPr>
          <a:xfrm>
            <a:off x="2843280" y="765000"/>
            <a:ext cx="5543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Be safe around electricity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187280" y="2781360"/>
            <a:ext cx="67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can be very dangerous. You should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ne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put anything into electric sockets, except plu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87280" y="458136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Ne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ouch appliances, wires or electrical switches with wet hands or fe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02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many sources of electricity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water-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2492280"/>
            <a:ext cx="2305080" cy="1506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sun-soho011905-1919z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6920" y="2421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wind_tur"/>
          <p:cNvPicPr/>
          <p:nvPr/>
        </p:nvPicPr>
        <p:blipFill>
          <a:blip r:embed="rId5"/>
          <a:stretch/>
        </p:blipFill>
        <p:spPr>
          <a:xfrm>
            <a:off x="2701800" y="2421000"/>
            <a:ext cx="2314800" cy="144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mvc-002f"/>
          <p:cNvPicPr/>
          <p:nvPr/>
        </p:nvPicPr>
        <p:blipFill>
          <a:blip r:embed="rId6"/>
          <a:stretch/>
        </p:blipFill>
        <p:spPr>
          <a:xfrm>
            <a:off x="826920" y="5157720"/>
            <a:ext cx="1305000" cy="981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3"/>
          <p:cNvSpPr/>
          <p:nvPr/>
        </p:nvSpPr>
        <p:spPr>
          <a:xfrm>
            <a:off x="1619280" y="407664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ssil fuels: coal, oil and w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5" descr="DYRYNDA%20Oil%20suction%20WEB"/>
          <p:cNvPicPr/>
          <p:nvPr/>
        </p:nvPicPr>
        <p:blipFill>
          <a:blip r:embed="rId7"/>
          <a:stretch/>
        </p:blipFill>
        <p:spPr>
          <a:xfrm>
            <a:off x="2987640" y="4724280"/>
            <a:ext cx="2448000" cy="160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tree%20bark"/>
          <p:cNvPicPr/>
          <p:nvPr/>
        </p:nvPicPr>
        <p:blipFill>
          <a:blip r:embed="rId8"/>
          <a:stretch/>
        </p:blipFill>
        <p:spPr>
          <a:xfrm>
            <a:off x="6012000" y="4869000"/>
            <a:ext cx="1734840" cy="1164960"/>
          </a:xfrm>
          <a:prstGeom prst="rect">
            <a:avLst/>
          </a:prstGeom>
          <a:ln w="0">
            <a:noFill/>
          </a:ln>
        </p:spPr>
      </p:pic>
      <p:sp>
        <p:nvSpPr>
          <p:cNvPr id="63" name="WordArt 28"/>
          <p:cNvSpPr txBox="1"/>
          <p:nvPr/>
        </p:nvSpPr>
        <p:spPr>
          <a:xfrm>
            <a:off x="2050920" y="765000"/>
            <a:ext cx="4819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ources of electricity 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763640" y="2205000"/>
            <a:ext cx="38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755640" y="119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is a kind of energy. It is made in power s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900000" y="549360"/>
            <a:ext cx="7505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at is electricity and how is it made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780000" y="508464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w do you think electricity is connected to our ho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4" descr="coal"/>
          <p:cNvPicPr/>
          <p:nvPr/>
        </p:nvPicPr>
        <p:blipFill>
          <a:blip r:embed="rId3"/>
          <a:stretch/>
        </p:blipFill>
        <p:spPr>
          <a:xfrm>
            <a:off x="684360" y="2276640"/>
            <a:ext cx="3600360" cy="25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6" descr="alkaline-batteries"/>
          <p:cNvPicPr/>
          <p:nvPr/>
        </p:nvPicPr>
        <p:blipFill>
          <a:blip r:embed="rId4"/>
          <a:stretch/>
        </p:blipFill>
        <p:spPr>
          <a:xfrm>
            <a:off x="4643280" y="2205000"/>
            <a:ext cx="2880000" cy="2639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8"/>
          <p:cNvSpPr/>
          <p:nvPr/>
        </p:nvSpPr>
        <p:spPr>
          <a:xfrm>
            <a:off x="2268360" y="1628640"/>
            <a:ext cx="52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is also made in batte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1547640" y="765000"/>
            <a:ext cx="5962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ow mains electricity work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539640" y="1628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icity produced in power stations is carried through wires into build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uk-plug"/>
          <p:cNvPicPr/>
          <p:nvPr/>
        </p:nvPicPr>
        <p:blipFill>
          <a:blip r:embed="rId3"/>
          <a:stretch/>
        </p:blipFill>
        <p:spPr>
          <a:xfrm>
            <a:off x="6516720" y="3357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elec3"/>
          <p:cNvPicPr/>
          <p:nvPr/>
        </p:nvPicPr>
        <p:blipFill>
          <a:blip r:embed="rId4"/>
          <a:stretch/>
        </p:blipFill>
        <p:spPr>
          <a:xfrm>
            <a:off x="3635280" y="321300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pylons"/>
          <p:cNvPicPr/>
          <p:nvPr/>
        </p:nvPicPr>
        <p:blipFill>
          <a:blip r:embed="rId5"/>
          <a:stretch/>
        </p:blipFill>
        <p:spPr>
          <a:xfrm>
            <a:off x="755640" y="2997360"/>
            <a:ext cx="2527200" cy="31683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4"/>
          <p:cNvSpPr/>
          <p:nvPr/>
        </p:nvSpPr>
        <p:spPr>
          <a:xfrm>
            <a:off x="179280" y="2421000"/>
            <a:ext cx="109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we can connect to it by using a plu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0"/>
          <p:cNvSpPr/>
          <p:nvPr/>
        </p:nvSpPr>
        <p:spPr>
          <a:xfrm>
            <a:off x="4698000" y="206064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is called mains 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1547640" y="620640"/>
            <a:ext cx="5753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ow batteries work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9" name="Picture 5" descr="batteries"/>
          <p:cNvPicPr/>
          <p:nvPr/>
        </p:nvPicPr>
        <p:blipFill>
          <a:blip r:embed="rId3"/>
          <a:stretch/>
        </p:blipFill>
        <p:spPr>
          <a:xfrm>
            <a:off x="6659640" y="5084640"/>
            <a:ext cx="1920960" cy="1587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3780000" y="141300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side a battery are two different chemicals. When you put a battery into an appliance a circuit is m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battery1"/>
          <p:cNvPicPr/>
          <p:nvPr/>
        </p:nvPicPr>
        <p:blipFill>
          <a:blip r:embed="rId4"/>
          <a:srcRect l="3561" t="22732" r="28743" b="24232"/>
          <a:stretch/>
        </p:blipFill>
        <p:spPr>
          <a:xfrm>
            <a:off x="611280" y="1484280"/>
            <a:ext cx="2800080" cy="3949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battery1"/>
          <p:cNvPicPr/>
          <p:nvPr/>
        </p:nvPicPr>
        <p:blipFill>
          <a:blip r:embed="rId5"/>
          <a:srcRect l="0" t="90926" r="60810" b="0"/>
          <a:stretch/>
        </p:blipFill>
        <p:spPr>
          <a:xfrm>
            <a:off x="611280" y="5734080"/>
            <a:ext cx="2158920" cy="7063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8"/>
          <p:cNvSpPr/>
          <p:nvPr/>
        </p:nvSpPr>
        <p:spPr>
          <a:xfrm>
            <a:off x="3924360" y="3141720"/>
            <a:ext cx="475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two chemicals begin to change into new chemicals. As they change an electrical current flows along the circuit making the appliance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1403280" y="620640"/>
            <a:ext cx="6067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y do we need electricity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763640" y="170028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11280" y="15573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modern world we rely on electricity for nearly everyth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HDC190"/>
          <p:cNvPicPr/>
          <p:nvPr/>
        </p:nvPicPr>
        <p:blipFill>
          <a:blip r:embed="rId3"/>
          <a:stretch/>
        </p:blipFill>
        <p:spPr>
          <a:xfrm>
            <a:off x="755640" y="3573360"/>
            <a:ext cx="1905120" cy="2163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wolves_lamp"/>
          <p:cNvPicPr/>
          <p:nvPr/>
        </p:nvPicPr>
        <p:blipFill>
          <a:blip r:embed="rId4"/>
          <a:stretch/>
        </p:blipFill>
        <p:spPr>
          <a:xfrm>
            <a:off x="6588000" y="3357720"/>
            <a:ext cx="1671840" cy="2187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9"/>
          <p:cNvSpPr/>
          <p:nvPr/>
        </p:nvSpPr>
        <p:spPr>
          <a:xfrm>
            <a:off x="2916360" y="5516640"/>
            <a:ext cx="53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What type of electricity do these appliances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611280" y="2421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need it for important things l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4" descr="000000209120050124161105"/>
          <p:cNvPicPr/>
          <p:nvPr/>
        </p:nvPicPr>
        <p:blipFill>
          <a:blip r:embed="rId5"/>
          <a:stretch/>
        </p:blipFill>
        <p:spPr>
          <a:xfrm>
            <a:off x="3492360" y="3573360"/>
            <a:ext cx="1951200" cy="1903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5"/>
          <p:cNvSpPr/>
          <p:nvPr/>
        </p:nvSpPr>
        <p:spPr>
          <a:xfrm>
            <a:off x="684360" y="306864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friger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3635280" y="3068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7"/>
          <p:cNvSpPr/>
          <p:nvPr/>
        </p:nvSpPr>
        <p:spPr>
          <a:xfrm>
            <a:off x="6732720" y="28526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gh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5"/>
          <p:cNvSpPr txBox="1"/>
          <p:nvPr/>
        </p:nvSpPr>
        <p:spPr>
          <a:xfrm>
            <a:off x="1116000" y="765000"/>
            <a:ext cx="6505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ings that use battery pow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755640" y="1844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n you think of appliances that use batter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Remote%20control%20philips"/>
          <p:cNvPicPr/>
          <p:nvPr/>
        </p:nvPicPr>
        <p:blipFill>
          <a:blip r:embed="rId3"/>
          <a:stretch/>
        </p:blipFill>
        <p:spPr>
          <a:xfrm>
            <a:off x="684360" y="2708280"/>
            <a:ext cx="1993680" cy="149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wwwwwww$818133129"/>
          <p:cNvPicPr/>
          <p:nvPr/>
        </p:nvPicPr>
        <p:blipFill>
          <a:blip r:embed="rId4"/>
          <a:stretch/>
        </p:blipFill>
        <p:spPr>
          <a:xfrm>
            <a:off x="5796000" y="2492280"/>
            <a:ext cx="1789200" cy="212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iving_torch"/>
          <p:cNvPicPr/>
          <p:nvPr/>
        </p:nvPicPr>
        <p:blipFill>
          <a:blip r:embed="rId5"/>
          <a:stretch/>
        </p:blipFill>
        <p:spPr>
          <a:xfrm>
            <a:off x="3564000" y="2565360"/>
            <a:ext cx="1828800" cy="15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1258920" y="620640"/>
            <a:ext cx="6219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ings that use mains electricity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1" name="Picture 6" descr="intermediate-pc"/>
          <p:cNvPicPr/>
          <p:nvPr/>
        </p:nvPicPr>
        <p:blipFill>
          <a:blip r:embed="rId3"/>
          <a:stretch/>
        </p:blipFill>
        <p:spPr>
          <a:xfrm>
            <a:off x="1073160" y="2624040"/>
            <a:ext cx="2806560" cy="2476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projectors"/>
          <p:cNvPicPr/>
          <p:nvPr/>
        </p:nvPicPr>
        <p:blipFill>
          <a:blip r:embed="rId4"/>
          <a:stretch/>
        </p:blipFill>
        <p:spPr>
          <a:xfrm>
            <a:off x="5003640" y="2205000"/>
            <a:ext cx="3384720" cy="2185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2"/>
          <p:cNvSpPr/>
          <p:nvPr/>
        </p:nvSpPr>
        <p:spPr>
          <a:xfrm>
            <a:off x="900000" y="141300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at can you see in this classroom that uses mains electric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324650_3"/>
          <p:cNvPicPr/>
          <p:nvPr/>
        </p:nvPicPr>
        <p:blipFill>
          <a:blip r:embed="rId5"/>
          <a:stretch/>
        </p:blipFill>
        <p:spPr>
          <a:xfrm>
            <a:off x="3851280" y="4437000"/>
            <a:ext cx="2168640" cy="1440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539640" y="558972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at things do you have at home that use mains electricity?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2:57:45Z</dcterms:created>
  <dc:creator>Uel User</dc:creator>
  <dc:description/>
  <dc:language>en-US</dc:language>
  <cp:lastModifiedBy>RomaK</cp:lastModifiedBy>
  <dcterms:modified xsi:type="dcterms:W3CDTF">2015-09-03T12:38:12Z</dcterms:modified>
  <cp:revision>35</cp:revision>
  <dc:subject/>
  <dc:title> </dc:title>
</cp:coreProperties>
</file>